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17.jpeg" ContentType="image/jpeg"/>
  <Override PartName="/ppt/media/image16.jpeg" ContentType="image/jpeg"/>
  <Override PartName="/ppt/media/image15.pct" ContentType="image/x-pict"/>
  <Override PartName="/ppt/media/image14.jpeg" ContentType="image/jpeg"/>
  <Override PartName="/ppt/media/image1.png" ContentType="image/png"/>
  <Override PartName="/ppt/media/image3.jpeg" ContentType="image/jpeg"/>
  <Override PartName="/ppt/media/image4.pct" ContentType="image/x-pict"/>
  <Override PartName="/ppt/media/image1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A66-47D5-450B-B753-E08C8A3E19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4CB9-131A-416A-9437-3515D86C53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AC5C-DD23-4C5F-B431-CB46ACFE3B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D06-45BB-4BA9-AE8F-20B37ABBE9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90D-4DFF-4975-B4A1-2979ADFA11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DC76-4881-4E53-88FF-0F7E731A30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E663-E9FC-4515-BDDC-7CED3BEC5E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840-1A05-4CC5-9896-69DD1BE30F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154-0545-4B93-BFB1-F4BC765F3F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5E8-5C0D-47E3-8E07-8857C745E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439-021A-4047-A01B-B9091905F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2A1-03C7-4F16-86C5-3F63E4C4EF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6D5-5DCF-4E92-B9D7-49A182E3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68A-6971-4B94-92A1-B102802D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BB2-8CFF-4B5C-9694-0C7FB2A4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DE0-158D-4555-BDA6-04B56474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612-0F06-4135-A29C-615FC20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DC2-7776-4499-BBE7-C30A00F6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C67-E416-454A-9D19-02820DD2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0E6-D7E7-4811-A8FC-01257AA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C05-6667-479D-BE35-ED6CEB5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FAF-E572-45E4-B6DD-1B4A6575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D6A-D8CE-4A20-BD39-00DA461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C23-B908-4B2A-BCF6-7034800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7632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991-C9ED-4356-95DF-0EA21F1B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ct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sp>
          <p:nvSpPr>
            <p:cNvPr id="4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6320" y="12600"/>
              <a:ext cx="8610480" cy="806400"/>
              <a:chOff x="76320" y="12600"/>
              <a:chExt cx="8610480" cy="8064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>
                <a:grayscl/>
              </a:blip>
              <a:stretch/>
            </p:blipFill>
            <p:spPr>
              <a:xfrm>
                <a:off x="76320" y="12600"/>
                <a:ext cx="720720" cy="80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842400" y="130320"/>
                <a:ext cx="22460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5240"/>
                    <a:tab algn="l" pos="1590840"/>
                    <a:tab algn="l" pos="2386080"/>
                    <a:tab algn="l" pos="3181320"/>
                    <a:tab algn="l" pos="3976560"/>
                    <a:tab algn="l" pos="4772160"/>
                    <a:tab algn="l" pos="5567400"/>
                    <a:tab algn="l" pos="6362640"/>
                    <a:tab algn="l" pos="7157880"/>
                    <a:tab algn="l" pos="7953480"/>
                    <a:tab algn="l" pos="8748720"/>
                    <a:tab algn="l" pos="9543960"/>
                    <a:tab algn="l" pos="10339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Universita’ di Ba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3809880" y="88920"/>
                <a:ext cx="4876920" cy="39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Comic Sans MS"/>
                  </a:rPr>
                  <a:t>Biologia Cellulare e Molecolare   Genetica II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6"/>
                </a:solidFill>
                <a:latin typeface="Comic Sans MS"/>
              </a:rPr>
              <a:t>Genetica del cancro</a:t>
            </a:r>
            <a:endParaRPr b="1" lang="en-US" sz="36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3642480" y="586584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75280" cy="42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coinvolti nel riparo dei mismatch del DNA 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SH2, MLH1, PMS1, PMS2 e GTBP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la cui alterazione provoca la cosiddetta “instabilita’ dei microsatelliti” tipica della HNPCC, Hereditary Non Polyposis Colon Cancer e generalmente del riparo di danni al DNA (gen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caretak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105520"/>
            <a:ext cx="8305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“landscapers” (architetti del paesaggio)(mutazioni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T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MAD4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llo stato eterozigote (aploinsufficienza) conducono ad un’anormale proliferazione delle cellule stromali circostanti le cellule epiteliali del colon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aretakers e Landscapers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1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l tumore come network</a:t>
            </a:r>
            <a:endParaRPr b="1" lang="en-US" sz="24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330200" y="224784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1720" y="126360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cinoma del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560" y="563868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o di progressione a tappe da tumore benigno a tumore mali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8862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1480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erplasia Le cellule conserva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41911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 situ Le cellule perdono il contatto con il tess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05640" cy="1947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752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 cellule mutate iniziano a duplicarsi in modo incontrol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6668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350496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057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plasia. Le cellule perdo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819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257800" y="3428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1523880"/>
            <a:ext cx="1523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vasivo Le cellule divengo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asive e metastatizz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3581280"/>
            <a:ext cx="2971800" cy="30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cesso di vascolar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4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55680" y="2286000"/>
            <a:ext cx="16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600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111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E’ cruciale il tipo cellulare dove si localizza la mutazione 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1203480" y="2743200"/>
            <a:ext cx="169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581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traslocazione di un gene, poco attivo o inattivo, in prossimita’ della zona regolatrice di un altro gene attivamente trascritto in un tip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7200" y="5524560"/>
            <a:ext cx="40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Esempi: linfo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ellule normali e canceros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50560" y="13716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120" y="137952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CANCE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2057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DITA 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160" y="228600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3341520"/>
            <a:ext cx="416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APACI DI CRESCERE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CCEZIONE I LINFOCI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87360" y="3352680"/>
            <a:ext cx="40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SCONO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762440"/>
            <a:ext cx="42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PENDENTI DA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7624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ENDENTI DAI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00" y="58024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3240" y="5802480"/>
            <a:ext cx="19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9520" y="685800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16480" y="2128680"/>
            <a:ext cx="16992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55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nomalie cromosomiche fanno parte della descrizione classica del fenotipo citologico delle cellule 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8465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izialment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oppo varie per localizzazione e per natura (aneuploidie, inversioni, traslocazioni, inversioni) per poter essere class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con il miglioramento delle tecniche citogenetich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37440" y="5410080"/>
            <a:ext cx="7564320" cy="429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IDIVIDUAZIONE DI RIARRANGIAMENTI NON CAS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841400"/>
            <a:ext cx="871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o studio dei riarrangiamenti non casuali è stato riportato essenzialmente nel campo delle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mopatie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aligne, poiché le cellule ematiche si prestano molto meglio delle cellule dei tumori solidi all’esplorazione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52388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ML è stata la prima malattia neoplastica dell’u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cui una specifica anomalia del cariotipo, il cromosoma Philadelphia (P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è stata associata alla generazione della leu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35600" y="1371600"/>
            <a:ext cx="4056120" cy="5029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V="1">
            <a:off x="8211960" y="3048120"/>
            <a:ext cx="68580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9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962000"/>
            <a:ext cx="3932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1143000"/>
            <a:ext cx="458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730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276720"/>
            <a:ext cx="29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4800600"/>
            <a:ext cx="89917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648320" y="762120"/>
            <a:ext cx="4495680" cy="4059000"/>
            <a:chOff x="4648320" y="762120"/>
            <a:chExt cx="4495680" cy="4059000"/>
          </a:xfrm>
        </p:grpSpPr>
        <p:grpSp>
          <p:nvGrpSpPr>
            <p:cNvPr id="309" name=""/>
            <p:cNvGrpSpPr/>
            <p:nvPr/>
          </p:nvGrpSpPr>
          <p:grpSpPr>
            <a:xfrm>
              <a:off x="4648320" y="762120"/>
              <a:ext cx="4495680" cy="4059000"/>
              <a:chOff x="4648320" y="762120"/>
              <a:chExt cx="4495680" cy="40590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762120"/>
                <a:ext cx="449568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477120" y="2382480"/>
                <a:ext cx="380880" cy="304560"/>
              </a:xfrm>
              <a:prstGeom prst="rightArrow">
                <a:avLst>
                  <a:gd name="adj1" fmla="val 50000"/>
                  <a:gd name="adj2" fmla="val 312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41000" y="95220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36160" y="1434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953760" y="9554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28560" y="14126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05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3657600"/>
            <a:ext cx="46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1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37800" cy="4395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99072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2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1219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citogenetic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citogenetico molecolare (FISH): cromosoma Philadelphia nella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52280" y="2757600"/>
            <a:ext cx="5715000" cy="38718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019920" y="2890800"/>
            <a:ext cx="3066840" cy="30114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7772400" y="60948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36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572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alterati nel cancro sono definiti </a:t>
            </a:r>
            <a:r>
              <a:rPr b="1" lang="en-US" sz="2400" spc="-1" strike="noStrike">
                <a:solidFill>
                  <a:srgbClr val="ff0f23"/>
                </a:solidFill>
                <a:latin typeface="Comic Sans MS"/>
              </a:rPr>
              <a:t>onco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questo nome deriva dalla scoperta di geni virali responsabili della trasformazione  in tumore delle cellule infe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3549600"/>
            <a:ext cx="1791000" cy="1371600"/>
            <a:chOff x="2438280" y="3549600"/>
            <a:chExt cx="1791000" cy="1371600"/>
          </a:xfrm>
        </p:grpSpPr>
        <p:sp>
          <p:nvSpPr>
            <p:cNvPr id="64" name=""/>
            <p:cNvSpPr/>
            <p:nvPr/>
          </p:nvSpPr>
          <p:spPr>
            <a:xfrm>
              <a:off x="35812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4387680"/>
              <a:ext cx="1791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oto-oncog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52280" y="3549600"/>
            <a:ext cx="2133720" cy="1618200"/>
            <a:chOff x="152280" y="3549600"/>
            <a:chExt cx="2133720" cy="1618200"/>
          </a:xfrm>
        </p:grpSpPr>
        <p:sp>
          <p:nvSpPr>
            <p:cNvPr id="67" name=""/>
            <p:cNvSpPr/>
            <p:nvPr/>
          </p:nvSpPr>
          <p:spPr>
            <a:xfrm>
              <a:off x="838080" y="3549600"/>
              <a:ext cx="304920" cy="838080"/>
            </a:xfrm>
            <a:prstGeom prst="downArrow">
              <a:avLst>
                <a:gd name="adj1" fmla="val 50000"/>
                <a:gd name="adj2" fmla="val 68713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280" y="446400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ncosoppress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geni nei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419720" y="3549600"/>
            <a:ext cx="2095560" cy="1555560"/>
            <a:chOff x="4419720" y="3549600"/>
            <a:chExt cx="2095560" cy="1555560"/>
          </a:xfrm>
        </p:grpSpPr>
        <p:sp>
          <p:nvSpPr>
            <p:cNvPr id="71" name=""/>
            <p:cNvSpPr/>
            <p:nvPr/>
          </p:nvSpPr>
          <p:spPr>
            <a:xfrm>
              <a:off x="5562720" y="354960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72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ret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ddetti alla manutenzi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3549600"/>
            <a:ext cx="2095560" cy="1555560"/>
            <a:chOff x="6781680" y="3549600"/>
            <a:chExt cx="2095560" cy="1555560"/>
          </a:xfrm>
        </p:grpSpPr>
        <p:sp>
          <p:nvSpPr>
            <p:cNvPr id="74" name=""/>
            <p:cNvSpPr/>
            <p:nvPr/>
          </p:nvSpPr>
          <p:spPr>
            <a:xfrm>
              <a:off x="79246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8168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ndsca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rchitetti del paesaggi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11480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mole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1447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T-PCR (geni di fusione o traslocazioni con punto di rottura noto): t(14;18)gene: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495680" y="3087720"/>
            <a:ext cx="4648320" cy="2865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4267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373880" y="533520"/>
            <a:ext cx="1465200" cy="1322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28600" y="2743200"/>
            <a:ext cx="1600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46240" y="2743200"/>
            <a:ext cx="139716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920" y="244476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6240" y="2463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320" y="30481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5280" y="30351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2094840" y="33145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3320" y="365760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ssun prodo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4460760"/>
            <a:ext cx="1600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484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7160" y="412128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 14;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41840" y="47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460760"/>
            <a:ext cx="13968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484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94320" y="4753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033280" y="52196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79440" y="556272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o di RT-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 gene ib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81040" y="6324480"/>
            <a:ext cx="835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3160" y="6324480"/>
            <a:ext cx="72864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67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7172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5094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7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438280"/>
            <a:ext cx="2454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1119"/>
                </a:solidFill>
                <a:latin typeface="Comic Sans MS"/>
              </a:rPr>
              <a:t>La traslocazione t(15;17)(q22;q21) è associata clinicamente alla leucemia acuta promielocitica (AP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276720" y="1477800"/>
            <a:ext cx="5651280" cy="5075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eucemia Acuta Promielocitica (APL) (geni coinvolti PML-RAR</a:t>
            </a:r>
            <a:r>
              <a:rPr b="1" lang="it-IT" sz="2800" spc="-1" strike="noStrike">
                <a:solidFill>
                  <a:srgbClr val="ff1119"/>
                </a:solidFill>
                <a:latin typeface="Symbol"/>
                <a:ea typeface="Symbol"/>
              </a:rPr>
              <a:t></a:t>
            </a: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57560" y="557532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ff0b"/>
                </a:solidFill>
                <a:latin typeface="Comic Sans MS"/>
              </a:rPr>
              <a:t>In verde chr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9"/>
                </a:solidFill>
                <a:latin typeface="Comic Sans MS"/>
              </a:rPr>
              <a:t>In rosso chr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7172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50943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9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11430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ià negli anni ‘80 ben venti diversi retrovirus erano risultati portatori di un oncogene: sono indicati con abbreviazioni di tre lettere, solitamente derivanti dal tumore provocato (es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rb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er eritroblastos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76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8195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i oncogeni virali sono omologhi a normali geni eucariotici (es. il gene viral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v-src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è omologo al gene cellul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-sr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cioe’ nella cellula sono presenti geni che hanno la funzione di stimolare la riproduzione cellu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449568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i geni cellulari sono definiti PROTO-ONCO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648320"/>
            <a:ext cx="8686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do si sovraesprimono diventano oncogeni e trasformano la cellula: quindi si possono definire dominanti... Per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276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143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’ la cellula e’ eterozigote : ha un allel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ild-typ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uno mutato e per questo non e’ piu’ in grado di svolgere correttamente il controllo sul proprio cicl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895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utazioni dei proto-oncogeni danno un vantaggio selettivo alla cellula perche’ permettono di crescere indiscrimina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495680"/>
            <a:ext cx="8610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roto-oncogeni sono geni che codificano per molecole che regolano il differenziamento e la proliferazione cellulare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fattori di crescita, recettori, proteine associate alla membrana cellulare per la trasmissione dei segnali, proteine che controllano la trascrizione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04920" y="1143000"/>
            <a:ext cx="7000920" cy="5153040"/>
            <a:chOff x="304920" y="1143000"/>
            <a:chExt cx="7000920" cy="51530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90720" y="1143000"/>
              <a:ext cx="6315120" cy="51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00200" y="1447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21896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s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74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er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Schema delle classi d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700440"/>
            <a:ext cx="36576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proto-oncogeni diventano oncogeni quando vengano attivati in maniera difforme dal loro schema fisiolo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0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37339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plificazione ge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0574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guenza di errori casuali nella replicazione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1523880"/>
            <a:ext cx="457200" cy="457200"/>
          </a:xfrm>
          <a:custGeom>
            <a:avLst/>
            <a:gdLst>
              <a:gd name="textAreaLeft" fmla="*/ 152280 w 457200"/>
              <a:gd name="textAreaRight" fmla="*/ 391680 w 4572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590920"/>
            <a:ext cx="8534520" cy="368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empio: cromosomi double minutes e homogeneously staining regions (H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79720" y="3124080"/>
            <a:ext cx="357984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505400" y="3124080"/>
            <a:ext cx="2435040" cy="727200"/>
            <a:chOff x="4505400" y="3124080"/>
            <a:chExt cx="2435040" cy="727200"/>
          </a:xfrm>
        </p:grpSpPr>
        <p:sp>
          <p:nvSpPr>
            <p:cNvPr id="116" name=""/>
            <p:cNvSpPr/>
            <p:nvPr/>
          </p:nvSpPr>
          <p:spPr>
            <a:xfrm flipH="1">
              <a:off x="4505400" y="331776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581000" y="33177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038200" y="33940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880" y="3124080"/>
              <a:ext cx="16725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uble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22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95280"/>
            <a:ext cx="4343400" cy="52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e pun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362320"/>
            <a:ext cx="82296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nel carcinoma della vescica, il g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a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mutazione nella sostituzione di una singola base che, a sua volta, provoca la sostituzione di un amminoacido. Tali cambiamenti avvengono in punti caratteristici del gene che conducono a trasformazione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3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219320"/>
            <a:ext cx="891540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arrangiamento cromosomic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foma di Burkitt t(8;14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d__x001d__x001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981080"/>
            <a:ext cx="5042160" cy="2273400"/>
            <a:chOff x="152280" y="1981080"/>
            <a:chExt cx="5042160" cy="2273400"/>
          </a:xfrm>
        </p:grpSpPr>
        <p:grpSp>
          <p:nvGrpSpPr>
            <p:cNvPr id="137" name=""/>
            <p:cNvGrpSpPr/>
            <p:nvPr/>
          </p:nvGrpSpPr>
          <p:grpSpPr>
            <a:xfrm>
              <a:off x="1219320" y="1981080"/>
              <a:ext cx="380880" cy="2273400"/>
              <a:chOff x="1219320" y="1981080"/>
              <a:chExt cx="380880" cy="2273400"/>
            </a:xfrm>
          </p:grpSpPr>
          <p:sp>
            <p:nvSpPr>
              <p:cNvPr id="138" name=""/>
              <p:cNvSpPr/>
              <p:nvPr/>
            </p:nvSpPr>
            <p:spPr>
              <a:xfrm>
                <a:off x="12193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032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193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1932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52280" y="3440160"/>
              <a:ext cx="990720" cy="398880"/>
              <a:chOff x="152280" y="3440160"/>
              <a:chExt cx="990720" cy="398880"/>
            </a:xfrm>
          </p:grpSpPr>
          <p:sp>
            <p:nvSpPr>
              <p:cNvPr id="143" name=""/>
              <p:cNvSpPr/>
              <p:nvPr/>
            </p:nvSpPr>
            <p:spPr>
              <a:xfrm>
                <a:off x="156960" y="3440160"/>
                <a:ext cx="88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-my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280" y="382104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905200" y="2857680"/>
              <a:ext cx="380880" cy="1371600"/>
              <a:chOff x="2905200" y="2857680"/>
              <a:chExt cx="380880" cy="1371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90520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8908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0520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0520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438360" y="3352680"/>
              <a:ext cx="175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 catena pesante 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4038480"/>
              <a:ext cx="68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76520" y="1981080"/>
              <a:ext cx="380880" cy="2273400"/>
              <a:chOff x="1676520" y="1981080"/>
              <a:chExt cx="380880" cy="2273400"/>
            </a:xfrm>
          </p:grpSpPr>
          <p:sp>
            <p:nvSpPr>
              <p:cNvPr id="153" name=""/>
              <p:cNvSpPr/>
              <p:nvPr/>
            </p:nvSpPr>
            <p:spPr>
              <a:xfrm>
                <a:off x="16765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604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65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438280" y="2857680"/>
              <a:ext cx="380880" cy="1371600"/>
              <a:chOff x="2438280" y="2857680"/>
              <a:chExt cx="380880" cy="1371600"/>
            </a:xfrm>
          </p:grpSpPr>
          <p:sp>
            <p:nvSpPr>
              <p:cNvPr id="158" name=""/>
              <p:cNvSpPr/>
              <p:nvPr/>
            </p:nvSpPr>
            <p:spPr>
              <a:xfrm>
                <a:off x="243828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2216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828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3828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1981080"/>
            <a:ext cx="2438280" cy="2286000"/>
            <a:chOff x="5715000" y="1981080"/>
            <a:chExt cx="2438280" cy="2286000"/>
          </a:xfrm>
        </p:grpSpPr>
        <p:grpSp>
          <p:nvGrpSpPr>
            <p:cNvPr id="163" name=""/>
            <p:cNvGrpSpPr/>
            <p:nvPr/>
          </p:nvGrpSpPr>
          <p:grpSpPr>
            <a:xfrm>
              <a:off x="6248520" y="1981080"/>
              <a:ext cx="380880" cy="2286000"/>
              <a:chOff x="6248520" y="1981080"/>
              <a:chExt cx="380880" cy="2286000"/>
            </a:xfrm>
          </p:grpSpPr>
          <p:sp>
            <p:nvSpPr>
              <p:cNvPr id="164" name=""/>
              <p:cNvSpPr/>
              <p:nvPr/>
            </p:nvSpPr>
            <p:spPr>
              <a:xfrm>
                <a:off x="62485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324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485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520" y="380988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8520" y="3898800"/>
                <a:ext cx="380880" cy="368280"/>
              </a:xfrm>
              <a:prstGeom prst="can">
                <a:avLst>
                  <a:gd name="adj" fmla="val 28449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520" y="39117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238880" y="2857680"/>
              <a:ext cx="380880" cy="1371600"/>
              <a:chOff x="7238880" y="2857680"/>
              <a:chExt cx="380880" cy="13716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3888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38880" y="387360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312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888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38880" y="3873600"/>
                <a:ext cx="380880" cy="355680"/>
              </a:xfrm>
              <a:prstGeom prst="can">
                <a:avLst>
                  <a:gd name="adj" fmla="val 9819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1981080"/>
              <a:ext cx="380880" cy="2273400"/>
              <a:chOff x="5715000" y="1981080"/>
              <a:chExt cx="380880" cy="2273400"/>
            </a:xfrm>
          </p:grpSpPr>
          <p:sp>
            <p:nvSpPr>
              <p:cNvPr id="177" name=""/>
              <p:cNvSpPr/>
              <p:nvPr/>
            </p:nvSpPr>
            <p:spPr>
              <a:xfrm>
                <a:off x="571500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888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1500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00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772400" y="2857680"/>
              <a:ext cx="380880" cy="1371600"/>
              <a:chOff x="7772400" y="2857680"/>
              <a:chExt cx="380880" cy="13716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7240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5628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7240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8160" y="434340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-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y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i viene a trovare sotto il controllo del promotore del 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e’ un promotore forte e nella serie bianca funziona ad un rit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vato: il proto-oncogene perde la propria regolazione e assume qu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 Ig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cellula perde il controll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360" y="5867280"/>
            <a:ext cx="71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O AVVIENE SOLO SE LA TRASLOCAZIONE SI VERIF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I LINFOCIT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590920"/>
            <a:ext cx="1905120" cy="3808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90" name="" descr=""/>
            <p:cNvPicPr/>
            <p:nvPr/>
          </p:nvPicPr>
          <p:blipFill>
            <a:blip r:embed="rId9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alterati nel cancro sono definiti </a:t>
            </a:r>
            <a:r>
              <a:rPr b="1" lang="en-US" sz="2400" spc="-1" strike="noStrike">
                <a:solidFill>
                  <a:srgbClr val="ff0f23"/>
                </a:solidFill>
                <a:latin typeface="Comic Sans MS"/>
              </a:rPr>
              <a:t>onco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questo nome deriva dalla scoperta di geni virali responsabili della trasformazione  in tumore delle cellule infe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2280" y="3549600"/>
            <a:ext cx="4077000" cy="1618200"/>
            <a:chOff x="152280" y="3549600"/>
            <a:chExt cx="4077000" cy="1618200"/>
          </a:xfrm>
        </p:grpSpPr>
        <p:grpSp>
          <p:nvGrpSpPr>
            <p:cNvPr id="196" name=""/>
            <p:cNvGrpSpPr/>
            <p:nvPr/>
          </p:nvGrpSpPr>
          <p:grpSpPr>
            <a:xfrm>
              <a:off x="2438280" y="3549600"/>
              <a:ext cx="1791000" cy="1371600"/>
              <a:chOff x="2438280" y="3549600"/>
              <a:chExt cx="1791000" cy="137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581280" y="3549600"/>
                <a:ext cx="304920" cy="914400"/>
              </a:xfrm>
              <a:prstGeom prst="downArrow">
                <a:avLst>
                  <a:gd name="adj1" fmla="val 50000"/>
                  <a:gd name="adj2" fmla="val 74970"/>
                </a:avLst>
              </a:prstGeom>
              <a:solidFill>
                <a:srgbClr val="ff0f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4387680"/>
                <a:ext cx="17910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roto-oncoge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52280" y="3549600"/>
              <a:ext cx="2133720" cy="1618200"/>
              <a:chOff x="152280" y="3549600"/>
              <a:chExt cx="2133720" cy="1618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080" y="3549600"/>
                <a:ext cx="304920" cy="838080"/>
              </a:xfrm>
              <a:prstGeom prst="downArrow">
                <a:avLst>
                  <a:gd name="adj1" fmla="val 50000"/>
                  <a:gd name="adj2" fmla="val 68713"/>
                </a:avLst>
              </a:prstGeom>
              <a:solidFill>
                <a:srgbClr val="ff0f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2280" y="4464000"/>
                <a:ext cx="213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ncosoppress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geni nei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419720" y="3549600"/>
            <a:ext cx="2095560" cy="1555560"/>
            <a:chOff x="4419720" y="3549600"/>
            <a:chExt cx="2095560" cy="1555560"/>
          </a:xfrm>
        </p:grpSpPr>
        <p:sp>
          <p:nvSpPr>
            <p:cNvPr id="204" name=""/>
            <p:cNvSpPr/>
            <p:nvPr/>
          </p:nvSpPr>
          <p:spPr>
            <a:xfrm>
              <a:off x="5562720" y="354960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972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ret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ddetti alla manutenzi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81680" y="3549600"/>
            <a:ext cx="2095560" cy="1555560"/>
            <a:chOff x="6781680" y="3549600"/>
            <a:chExt cx="2095560" cy="1555560"/>
          </a:xfrm>
        </p:grpSpPr>
        <p:sp>
          <p:nvSpPr>
            <p:cNvPr id="207" name=""/>
            <p:cNvSpPr/>
            <p:nvPr/>
          </p:nvSpPr>
          <p:spPr>
            <a:xfrm>
              <a:off x="79246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ndsca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rchitetti del paesaggi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7:16:03Z</dcterms:created>
  <dc:creator>Rocchi</dc:creator>
  <dc:description/>
  <dc:language>en-US</dc:language>
  <cp:lastModifiedBy>Mariano Rocchi</cp:lastModifiedBy>
  <dcterms:modified xsi:type="dcterms:W3CDTF">2005-06-14T06:58:09Z</dcterms:modified>
  <cp:revision>176</cp:revision>
  <dc:subject/>
  <dc:title>PowerPoint Presentation</dc:title>
</cp:coreProperties>
</file>